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947-85A6-41B7-93BA-6BE639A6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C96-EC3A-4ACA-90EB-BE2A58E4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6FD-F499-401D-BEE5-B16C21A4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CD2-9391-4C24-B6AC-6ACE7CC8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CF9D2-5C7E-409B-A716-CA24CB14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B6772-D601-49C4-BE05-DD364D26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7112E-12E1-4100-8896-789850FE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276CD-0257-4742-800A-335CA002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892AC-1759-4E3D-AFDA-8D5F6926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CD170-BC80-457A-B9C0-A715F462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679C6-BC1C-432B-B346-A5EEAE24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F55-CA7C-444F-90D6-932A27EF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DD7BD-9FB2-447C-AB32-221F5EE6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84B5D-6B9B-4475-AA5C-8E1B77EB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F3C80-E447-40AB-B9E8-8061C6F7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7FC6F-63E5-4250-B9AD-31F5E19B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1C0EF-C02C-4BF1-8169-E6ADF73B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D47-BFEB-4479-B753-BE0B018A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B6C-1FB6-4F56-BD5F-78893F06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A01-951C-44FA-89D8-95FECDCB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0CD-0C09-4E00-B12E-37A545FD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4A0-8CBE-40CE-903B-C324CB66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FA9-07A8-44B9-B50A-1819E789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6FA-9D83-41F4-A22A-D47A7745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974A-7CC5-4FBA-8EE3-DFBA6B4988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A637-C12A-4E3D-AD74-4F023E1754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7561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рода лу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437080"/>
            <a:ext cx="58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Чертагановой Ольги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ифоновой Марины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16200" y="1413000"/>
            <a:ext cx="3252960" cy="4032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ым в телескоп наблюдал Луну Галилео Галилей. Он увидел лунный пейзаж, покрытый горами и изрытый кратер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373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лескопы Галилея(Музей истории науки, Флоренция) Два телескопа укреплены на музейной подставке. В центре виньетки разбитый объектив от первого телескопа Гали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1797120"/>
            <a:ext cx="5761080" cy="4200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истеме наименований деталей рельефа Луны, используемой в настоящее время на картах, сохранились названия, данные еще Яном Гевелием в 1647 году, - Альпы, Апеннины, Кав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6226200"/>
            <a:ext cx="4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9500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6021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ерхность Луны, снятая АМС «Клемент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5184720" cy="4665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тальянский астроном Джованни Риччоли в 1651 г. предложил называть образования на Лун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терами и мор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3736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61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Эратосфен диаметром 61 км образовался относительно недавно.                 На горизонте виден другой молодой кратер-Копер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79640" y="1917720"/>
            <a:ext cx="4457520" cy="445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9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ные области на Луне носят названия: Море Влажности Океан Бурь, Море Дождей, Море Облаков, Залив Росы , Залив Радуги, Море Ясности, Море Спокойствия, Море Изоби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ре споко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628640"/>
            <a:ext cx="3621240" cy="497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ша автоматическая станция «Луна-2» первой достигла лунной поверхности, а АМС «Луна-3» сфотографировала невидимую с Земли сторону Луны в 1959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МС – «Луна-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278160" cy="228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1970 году автоматическая станция «Луна-17» доставила на Луну «Луноход -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5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оход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имая сторона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227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Луне побывали 12 астронавтов космических экспедиций «Аполло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19640" y="4184640"/>
            <a:ext cx="3024360" cy="22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00000" y="4200480"/>
            <a:ext cx="31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51640" y="1300320"/>
            <a:ext cx="3024000" cy="21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5733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д космонавта на мягком грунт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638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оллон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789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следование кра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 только космическими автоматическими станциями исследуется поверхность Луны, но и современные телескопы ведут наблюдения  за спутн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блюдения с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68880" cy="349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деальное место для  астрономических наблюдени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же сейчас существуют проекты будущих лунных  обсервато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17622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 – один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 самых крупных спут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Солнечной сис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522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а на нашем небосклоне и Земля на лунном н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640720" cy="631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075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ля видна на небосклоне Лу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Земли с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1990800"/>
            <a:ext cx="5477040" cy="3308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 вращения Луны вокруг своей ос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равен сидерическому периоду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кольку время одного оборота Луны вокруг Земли в точности равно времени одного оборота ее вокруг оси, Луна постоянно повернута к Земле одной и той же сторо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Луны в телеско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705440" cy="3854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 Луны в 81 раз меньше массы Земли, и поэтому на ней нет атмосф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6472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сутствие атмосферы на Луне приводит к резким колебаниям температуры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95640" y="1778040"/>
            <a:ext cx="4935240" cy="4935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нутреннее строение Луны изучено по сейсмическим данным, переданными  приборами космических экспедиций «Аполлон»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лщина  коры Луны 60-100 км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Толщина верхней мантии 4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нутреннее строени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97632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учение лунных пород, доставленных на Землю, позволило оценить возраст Луны методом радиоактивного распад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мни на луне стали твердыми около 4,4 млрд. лет наз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ва-1,5 килограммовый базальт одного из лунны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292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рава – горные породы со дна кратера, образовавшиеся в результате падения метео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700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центре - анортозит, по составу похожий на лунную кору возвышенных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080" y="363600"/>
            <a:ext cx="79786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щная литосфера толщиной около 1000 км исключает разломы и выход лавы на поверхность. Но раньше миллиарды лет назад, на Луне были извержения вулк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Ван де Граф шириной 243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1:14:57Z</dcterms:created>
  <dc:creator>Авдонин Александр Петрович</dc:creator>
  <dc:description/>
  <dc:language>en-US</dc:language>
  <cp:lastModifiedBy>Name</cp:lastModifiedBy>
  <dcterms:modified xsi:type="dcterms:W3CDTF">2010-09-23T12:06:11Z</dcterms:modified>
  <cp:revision>11</cp:revision>
  <dc:subject/>
  <dc:title>Поверхность Лу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9000000000001024140</vt:lpwstr>
  </property>
</Properties>
</file>